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29.wmf" ContentType="image/x-wmf"/>
  <Override PartName="/ppt/media/image19.jpeg" ContentType="image/jpeg"/>
  <Override PartName="/ppt/media/image11.png" ContentType="image/png"/>
  <Override PartName="/ppt/media/image6.wmf" ContentType="image/x-wmf"/>
  <Override PartName="/ppt/media/image5.wmf" ContentType="image/x-wmf"/>
  <Override PartName="/ppt/media/image30.wmf" ContentType="image/x-wmf"/>
  <Override PartName="/ppt/media/image7.jpeg" ContentType="image/jpeg"/>
  <Override PartName="/ppt/media/image12.png" ContentType="image/png"/>
  <Override PartName="/ppt/media/image4.jpeg" ContentType="image/jpeg"/>
  <Override PartName="/ppt/media/image16.wmf" ContentType="image/x-wmf"/>
  <Override PartName="/ppt/media/image8.png" ContentType="image/png"/>
  <Override PartName="/ppt/media/image13.png" ContentType="image/png"/>
  <Override PartName="/ppt/media/image9.wmf" ContentType="image/x-wmf"/>
  <Override PartName="/ppt/media/image28.wmf" ContentType="image/x-wmf"/>
  <Override PartName="/ppt/media/image3.jpeg" ContentType="image/jpeg"/>
  <Override PartName="/ppt/media/image25.wmf" ContentType="image/x-wmf"/>
  <Override PartName="/ppt/media/image10.png" ContentType="image/png"/>
  <Override PartName="/ppt/media/image1.jpeg" ContentType="image/jpeg"/>
  <Override PartName="/ppt/media/image15.wmf" ContentType="image/x-wmf"/>
  <Override PartName="/ppt/media/image14.wmf" ContentType="image/x-wmf"/>
  <Override PartName="/ppt/media/image17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media/image26.jpeg" ContentType="image/jpeg"/>
  <Override PartName="/ppt/media/image21.gif" ContentType="image/gif"/>
  <Override PartName="/ppt/media/image22.wmf" ContentType="image/x-wmf"/>
  <Override PartName="/ppt/media/image23.wmf" ContentType="image/x-wmf"/>
  <Override PartName="/ppt/media/image2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A838-5415-4152-A822-AD5A9683A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D6F2-A431-47D0-A031-D639E08EC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5B54-0814-4E6E-8C39-DFCADE586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A535-DA30-49D8-AD71-039F81CDE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8F299-0047-4D59-836F-D5378648B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21E2A-A220-40AC-BF0C-9380EF3DB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345B4-6540-4F4F-91F7-5892B670B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14FF3-0D87-441D-87E8-3E0AD375A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66237-8470-4460-A437-3F6CFC55E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4CECA-59CF-4DCE-9521-873D8EB5E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2DF6A-03DA-43A3-B1E1-9C34542A3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A72F-D71B-42A4-9080-1F73CDE45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8195D-6FDC-46E5-AF45-779FE4454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1CC71-46C9-4BA7-8AAF-20B31BEA3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4FF28-C176-4607-99C1-99948D924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5726A-EC44-482B-BA8B-ADCCF0062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A3FB0-808D-4F42-8FC6-59CA3E655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C1FA-89FD-491A-ABE3-18A92CD19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CFD5-4D27-462A-90CD-F666005E6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463E-63D7-4A00-9893-D456358AB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CAF6-88D0-440B-8BEA-5D08B8BF3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11E4-6C7E-4783-99D8-77836424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D147-08E9-4DE0-9BE8-826A575DF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5912-D332-4CDC-B463-62F9D68E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6760" y="0"/>
            <a:ext cx="11923200" cy="3809880"/>
            <a:chOff x="-3236760" y="0"/>
            <a:chExt cx="1192320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6760" y="685800"/>
              <a:ext cx="411408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3880" y="0"/>
              <a:ext cx="309312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2680" y="1523880"/>
              <a:ext cx="7313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6D38A-411D-43BA-ABB8-90686FE377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0920" y="304920"/>
            <a:ext cx="11907360" cy="4724280"/>
            <a:chOff x="-3220920" y="304920"/>
            <a:chExt cx="11907360" cy="4724280"/>
          </a:xfrm>
        </p:grpSpPr>
        <p:sp>
          <p:nvSpPr>
            <p:cNvPr id="46" name="Line 3"/>
            <p:cNvSpPr/>
            <p:nvPr/>
          </p:nvSpPr>
          <p:spPr>
            <a:xfrm>
              <a:off x="1448640" y="2514600"/>
              <a:ext cx="723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2800" y="1371600"/>
              <a:ext cx="365688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0920" y="304920"/>
              <a:ext cx="403776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EBF48-58BC-480B-9524-ABFBF0E260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wmf"/><Relationship Id="rId3" Type="http://schemas.openxmlformats.org/officeDocument/2006/relationships/image" Target="../media/image21.gif"/><Relationship Id="rId4" Type="http://schemas.openxmlformats.org/officeDocument/2006/relationships/image" Target="../media/image19.jpeg"/><Relationship Id="rId5" Type="http://schemas.openxmlformats.org/officeDocument/2006/relationships/image" Target="../media/image19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image" Target="../media/image19.jpeg"/><Relationship Id="rId5" Type="http://schemas.openxmlformats.org/officeDocument/2006/relationships/image" Target="../media/image19.jpeg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Speed and Acceleration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05740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easuring mo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5" descr="Ferrari Formula One Racing Car"/>
          <p:cNvPicPr/>
          <p:nvPr/>
        </p:nvPicPr>
        <p:blipFill>
          <a:blip r:embed="rId1"/>
          <a:srcRect l="0" t="0" r="-1323" b="20004"/>
          <a:stretch/>
        </p:blipFill>
        <p:spPr>
          <a:xfrm>
            <a:off x="6248520" y="0"/>
            <a:ext cx="2895480" cy="2286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lamborghini-reventon-vs-tornado-fighter-jet"/>
          <p:cNvPicPr/>
          <p:nvPr/>
        </p:nvPicPr>
        <p:blipFill>
          <a:blip r:embed="rId2"/>
          <a:stretch/>
        </p:blipFill>
        <p:spPr>
          <a:xfrm>
            <a:off x="2590920" y="3505320"/>
            <a:ext cx="4095720" cy="2504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Velocit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Velocity –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SPEED and DIRECTION of an objec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xample: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 airplane moving North at 500 mp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missile moving towards you at 200 m/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Picture 2" descr="C:\Documents and Settings\hymano\Local Settings\Temporary Internet Files\Content.IE5\M4JEETZT\MCj03662660000[1].wmf"/>
          <p:cNvPicPr/>
          <p:nvPr/>
        </p:nvPicPr>
        <p:blipFill>
          <a:blip r:embed="rId1"/>
          <a:stretch/>
        </p:blipFill>
        <p:spPr>
          <a:xfrm>
            <a:off x="838080" y="4038480"/>
            <a:ext cx="1984320" cy="2590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C:\Documents and Settings\hymano\Local Settings\Temporary Internet Files\Content.IE5\B939EBO6\MPj04140450000[1].jpg"/>
          <p:cNvPicPr/>
          <p:nvPr/>
        </p:nvPicPr>
        <p:blipFill>
          <a:blip r:embed="rId2"/>
          <a:srcRect l="0" t="27495" r="35837" b="11241"/>
          <a:stretch/>
        </p:blipFill>
        <p:spPr>
          <a:xfrm>
            <a:off x="4572000" y="4689360"/>
            <a:ext cx="3048120" cy="1940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5" name=""/>
          <p:cNvSpPr/>
          <p:nvPr/>
        </p:nvSpPr>
        <p:spPr>
          <a:xfrm rot="19389600">
            <a:off x="380880" y="327636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Ques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at is the difference between speed and velocity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peed is just distance/time. Velocity includes direction as well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raphing Speed: </a:t>
            </a:r>
            <a:br>
              <a:rPr sz="3600"/>
            </a:b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Distance vs. Time Graph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9" name="Content Placeholder 3"/>
          <p:cNvGraphicFramePr/>
          <p:nvPr/>
        </p:nvGraphicFramePr>
        <p:xfrm>
          <a:off x="533520" y="1827360"/>
          <a:ext cx="8150040" cy="464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Content Placeholder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827360"/>
                    <a:ext cx="8150040" cy="46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1" name="Picture 2" descr="C:\Documents and Settings\hymano\Local Settings\Temporary Internet Files\Content.IE5\I7NGU1IU\MCj03886760000[1].wmf"/>
          <p:cNvPicPr/>
          <p:nvPr/>
        </p:nvPicPr>
        <p:blipFill>
          <a:blip r:embed="rId3"/>
          <a:stretch/>
        </p:blipFill>
        <p:spPr>
          <a:xfrm rot="20160000">
            <a:off x="4051080" y="3247560"/>
            <a:ext cx="1815840" cy="3859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845360" y="502920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oeni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7569000" y="2071800"/>
            <a:ext cx="95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nv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raphing Speed: </a:t>
            </a:r>
            <a:br>
              <a:rPr sz="3600"/>
            </a:b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Distance vs. Time Graph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Content Placeholder 3"/>
              <p:cNvSpPr txBox="1"/>
              <p:nvPr/>
            </p:nvSpPr>
            <p:spPr>
              <a:xfrm>
                <a:off x="533520" y="1827360"/>
                <a:ext cx="8150040" cy="464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cceleration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ina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peed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nitia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peed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im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36" name="TextBox 4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5956560" cy="1251000"/>
          </a:xfrm>
          <a:prstGeom prst="rect">
            <a:avLst/>
          </a:prstGeom>
          <a:ln w="0">
            <a:noFill/>
          </a:ln>
        </p:spPr>
      </p:pic>
      <p:pic>
        <p:nvPicPr>
          <p:cNvPr id="137" name="TextBox 7" descr=""/>
          <p:cNvPicPr/>
          <p:nvPr/>
        </p:nvPicPr>
        <p:blipFill>
          <a:blip r:embed="rId2"/>
          <a:stretch/>
        </p:blipFill>
        <p:spPr>
          <a:xfrm>
            <a:off x="7070760" y="3108240"/>
            <a:ext cx="1523880" cy="7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raphing Speed: </a:t>
            </a:r>
            <a:br>
              <a:rPr sz="3600"/>
            </a:b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Distance vs. Time Graph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Content Placeholder 3"/>
              <p:cNvSpPr txBox="1"/>
              <p:nvPr/>
            </p:nvSpPr>
            <p:spPr>
              <a:xfrm>
                <a:off x="533520" y="1827360"/>
                <a:ext cx="8153280" cy="464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ccel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inal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peed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nitial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peed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Time</m:t>
                            </m:r>
                          </m:den>
                        </m:f>
                      </m:e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s</m:t>
                            </m:r>
                          </m:den>
                        </m:f>
                      </m:e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40" name="TextBox 7" descr=""/>
          <p:cNvPicPr/>
          <p:nvPr/>
        </p:nvPicPr>
        <p:blipFill>
          <a:blip r:embed="rId1"/>
          <a:stretch/>
        </p:blipFill>
        <p:spPr>
          <a:xfrm>
            <a:off x="6918480" y="3108240"/>
            <a:ext cx="2079360" cy="793800"/>
          </a:xfrm>
          <a:prstGeom prst="rect">
            <a:avLst/>
          </a:prstGeom>
          <a:ln w="0">
            <a:noFill/>
          </a:ln>
        </p:spPr>
      </p:pic>
      <p:sp>
        <p:nvSpPr>
          <p:cNvPr id="141" name="TextBox 4"/>
          <p:cNvSpPr/>
          <p:nvPr/>
        </p:nvSpPr>
        <p:spPr>
          <a:xfrm>
            <a:off x="5307480" y="4800600"/>
            <a:ext cx="51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 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Box 5"/>
          <p:cNvSpPr/>
          <p:nvPr/>
        </p:nvSpPr>
        <p:spPr>
          <a:xfrm>
            <a:off x="7437240" y="380988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600 k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TextBox 4" descr=""/>
          <p:cNvPicPr/>
          <p:nvPr/>
        </p:nvPicPr>
        <p:blipFill>
          <a:blip r:embed="rId2"/>
          <a:stretch/>
        </p:blipFill>
        <p:spPr>
          <a:xfrm>
            <a:off x="2054160" y="1359000"/>
            <a:ext cx="5956200" cy="12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raphing Speed: </a:t>
            </a:r>
            <a:br>
              <a:rPr sz="3600"/>
            </a:b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Distance vs. Time Graph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Content Placeholder 3"/>
              <p:cNvSpPr txBox="1"/>
              <p:nvPr/>
            </p:nvSpPr>
            <p:spPr>
              <a:xfrm>
                <a:off x="533520" y="1827360"/>
                <a:ext cx="8153280" cy="464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ccel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inal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peed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nitial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peed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Time</m:t>
                            </m:r>
                          </m:den>
                        </m:f>
                      </m:e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s</m:t>
                            </m:r>
                          </m:den>
                        </m:f>
                      </m:e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46" name="TextBox 7" descr=""/>
          <p:cNvPicPr/>
          <p:nvPr/>
        </p:nvPicPr>
        <p:blipFill>
          <a:blip r:embed="rId1"/>
          <a:stretch/>
        </p:blipFill>
        <p:spPr>
          <a:xfrm>
            <a:off x="6918480" y="3108240"/>
            <a:ext cx="2079360" cy="793800"/>
          </a:xfrm>
          <a:prstGeom prst="rect">
            <a:avLst/>
          </a:prstGeom>
          <a:ln w="0">
            <a:noFill/>
          </a:ln>
        </p:spPr>
      </p:pic>
      <p:sp>
        <p:nvSpPr>
          <p:cNvPr id="147" name="TextBox 4"/>
          <p:cNvSpPr/>
          <p:nvPr/>
        </p:nvSpPr>
        <p:spPr>
          <a:xfrm>
            <a:off x="5333040" y="480060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 minut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Box 5"/>
          <p:cNvSpPr/>
          <p:nvPr/>
        </p:nvSpPr>
        <p:spPr>
          <a:xfrm>
            <a:off x="7434720" y="3809880"/>
            <a:ext cx="84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600 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TextBox 6" descr=""/>
          <p:cNvPicPr/>
          <p:nvPr/>
        </p:nvPicPr>
        <p:blipFill>
          <a:blip r:embed="rId2"/>
          <a:stretch/>
        </p:blipFill>
        <p:spPr>
          <a:xfrm>
            <a:off x="2054160" y="1359000"/>
            <a:ext cx="5956200" cy="1251000"/>
          </a:xfrm>
          <a:prstGeom prst="rect">
            <a:avLst/>
          </a:prstGeom>
          <a:ln w="0">
            <a:noFill/>
          </a:ln>
        </p:spPr>
      </p:pic>
      <p:pic>
        <p:nvPicPr>
          <p:cNvPr id="150" name="TextBox 8" descr=""/>
          <p:cNvPicPr/>
          <p:nvPr/>
        </p:nvPicPr>
        <p:blipFill>
          <a:blip r:embed="rId3"/>
          <a:stretch/>
        </p:blipFill>
        <p:spPr>
          <a:xfrm>
            <a:off x="2236680" y="5126040"/>
            <a:ext cx="585324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Different Slop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52" name="Rectangle 7"/>
          <p:cNvGraphicFramePr/>
          <p:nvPr/>
        </p:nvGraphicFramePr>
        <p:xfrm>
          <a:off x="609480" y="1852560"/>
          <a:ext cx="7772400" cy="49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Rectangle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852560"/>
                    <a:ext cx="7772400" cy="49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2709720" y="4056120"/>
            <a:ext cx="414360" cy="5158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6672240" y="2608200"/>
            <a:ext cx="414360" cy="5158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 flipH="1">
            <a:off x="6553080" y="2819520"/>
            <a:ext cx="15264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6553080" y="2971800"/>
            <a:ext cx="15264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6553080" y="3124080"/>
            <a:ext cx="15264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5"/>
          <a:stretch/>
        </p:blipFill>
        <p:spPr>
          <a:xfrm>
            <a:off x="4724280" y="3429000"/>
            <a:ext cx="546120" cy="6174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209680" y="5029200"/>
            <a:ext cx="91440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>
            <a:off x="6400800" y="3886200"/>
            <a:ext cx="91440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4038480" y="4267080"/>
            <a:ext cx="91440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3124080" y="4648320"/>
            <a:ext cx="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7315200" y="3048120"/>
            <a:ext cx="0" cy="838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2211480" y="505944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un = 1 h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6369120" y="3886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un = 1 h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4006800" y="43434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un = 1 h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4812840" y="3992400"/>
            <a:ext cx="103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ise = 0 k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7403760" y="3352680"/>
            <a:ext cx="103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ise = 2 k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>
            <a:off x="3179520" y="4724280"/>
            <a:ext cx="103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ise = 1 k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638680"/>
            <a:ext cx="1752480" cy="685800"/>
          </a:xfrm>
          <a:prstGeom prst="wedgeRectCallout">
            <a:avLst>
              <a:gd name="adj1" fmla="val 78805"/>
              <a:gd name="adj2" fmla="val -16643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648000" y="5670720"/>
            <a:ext cx="143640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lope = Rise/Ru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= 1 km/1 h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1 km/h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1752480" cy="762120"/>
          </a:xfrm>
          <a:prstGeom prst="wedgeRectCallout">
            <a:avLst>
              <a:gd name="adj1" fmla="val 43023"/>
              <a:gd name="adj2" fmla="val 18645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3178440" y="2530440"/>
            <a:ext cx="143640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lope = Rise/Ru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= 0 km/1 h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0 km/h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7010280" y="4419720"/>
            <a:ext cx="1676520" cy="838080"/>
          </a:xfrm>
          <a:prstGeom prst="wedgeRectCallout">
            <a:avLst>
              <a:gd name="adj1" fmla="val -55208"/>
              <a:gd name="adj2" fmla="val -1801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7120080" y="4495680"/>
            <a:ext cx="143640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lope = Rise/Ru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= 2 km/1 h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2 km/h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Ques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693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Below is a distance vs. time graph of my position during a race. What was my AVERAGE speed for the entire race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9" name="Rectangle 7"/>
          <p:cNvGraphicFramePr/>
          <p:nvPr/>
        </p:nvGraphicFramePr>
        <p:xfrm>
          <a:off x="1143000" y="3200400"/>
          <a:ext cx="6781680" cy="340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Rectangle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200400"/>
                    <a:ext cx="6781680" cy="34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2590920" y="5638680"/>
            <a:ext cx="480060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7391520" y="3733560"/>
            <a:ext cx="0" cy="1904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1905120"/>
            <a:ext cx="91440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verage Speed = Total distance/Total time = 12 km/6 h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 km/h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4426560" y="6110280"/>
            <a:ext cx="12826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un = 6 h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585560" y="4343400"/>
            <a:ext cx="1527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ise = 12 k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7543800" y="2361960"/>
            <a:ext cx="990720" cy="19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334120" y="2285640"/>
            <a:ext cx="3047760" cy="380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Ques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at does the slope of a distance vs. time graph show you about the motion of an object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t tells you the SPEE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Ques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693576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Below is a distance vs. time graph for 3 runners. Who is the fastest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2" name="Rectangle 7"/>
          <p:cNvGraphicFramePr/>
          <p:nvPr/>
        </p:nvGraphicFramePr>
        <p:xfrm>
          <a:off x="1752480" y="2819520"/>
          <a:ext cx="6096240" cy="320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Rectangle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819520"/>
                    <a:ext cx="6096240" cy="32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1544760" y="6095880"/>
            <a:ext cx="589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roy is the fastest. He completed the race in 3 hou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"/>
          <p:cNvSpPr/>
          <p:nvPr/>
        </p:nvSpPr>
        <p:spPr>
          <a:xfrm rot="2623800">
            <a:off x="2603160" y="3205080"/>
            <a:ext cx="1523880" cy="304920"/>
          </a:xfrm>
          <a:prstGeom prst="rightArrow">
            <a:avLst>
              <a:gd name="adj1" fmla="val 50000"/>
              <a:gd name="adj2" fmla="val 12494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easuring Distanc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Meter –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ternational unit for measuring distanc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Picture 5" descr="Olympic-Pool-24519"/>
          <p:cNvPicPr/>
          <p:nvPr/>
        </p:nvPicPr>
        <p:blipFill>
          <a:blip r:embed="rId1"/>
          <a:stretch/>
        </p:blipFill>
        <p:spPr>
          <a:xfrm>
            <a:off x="5410080" y="2809800"/>
            <a:ext cx="3571920" cy="3895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7" name="Line 6"/>
          <p:cNvSpPr/>
          <p:nvPr/>
        </p:nvSpPr>
        <p:spPr>
          <a:xfrm>
            <a:off x="6019920" y="3048120"/>
            <a:ext cx="304560" cy="1981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6376680" y="3733920"/>
            <a:ext cx="115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= 50 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11" descr="5"/>
          <p:cNvPicPr/>
          <p:nvPr/>
        </p:nvPicPr>
        <p:blipFill>
          <a:blip r:embed="rId2"/>
          <a:stretch/>
        </p:blipFill>
        <p:spPr>
          <a:xfrm>
            <a:off x="914400" y="4419720"/>
            <a:ext cx="2895480" cy="1392120"/>
          </a:xfrm>
          <a:prstGeom prst="rect">
            <a:avLst/>
          </a:prstGeom>
          <a:ln w="0">
            <a:noFill/>
          </a:ln>
        </p:spPr>
      </p:pic>
      <p:sp>
        <p:nvSpPr>
          <p:cNvPr id="100" name="Line 12"/>
          <p:cNvSpPr/>
          <p:nvPr/>
        </p:nvSpPr>
        <p:spPr>
          <a:xfrm>
            <a:off x="1143000" y="411480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13"/>
          <p:cNvSpPr/>
          <p:nvPr/>
        </p:nvSpPr>
        <p:spPr>
          <a:xfrm>
            <a:off x="1704240" y="3689280"/>
            <a:ext cx="8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m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ccelera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cceleration =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speeding up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cceleration –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rate at which velocity chang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an be an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crease in spe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crease in spe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nge in direc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ypes of accelera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creasing spee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xample: Car speeds up at green ligh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creasing spee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xample: Car slows down at stop ligh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hanging Direc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xample: Car takes turn (can be at 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constant speed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6172200" y="1523880"/>
            <a:ext cx="1219320" cy="87948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flipH="1" flipV="1">
            <a:off x="5866920" y="159984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5866920" y="1752480"/>
            <a:ext cx="3049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6019920" y="1523880"/>
            <a:ext cx="30456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238880" y="990720"/>
            <a:ext cx="1051200" cy="10443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7467480" y="2666880"/>
            <a:ext cx="738360" cy="7225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6172200" y="2743200"/>
            <a:ext cx="1219320" cy="879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6705720" y="3429000"/>
            <a:ext cx="1066680" cy="304920"/>
          </a:xfrm>
          <a:prstGeom prst="irregularSeal2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screeeeech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5"/>
          <a:stretch/>
        </p:blipFill>
        <p:spPr>
          <a:xfrm rot="1059000">
            <a:off x="5486040" y="5486040"/>
            <a:ext cx="1219320" cy="8794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6"/>
          <a:stretch/>
        </p:blipFill>
        <p:spPr>
          <a:xfrm rot="19681200">
            <a:off x="7162560" y="5486040"/>
            <a:ext cx="1218960" cy="8794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6172200" y="6324480"/>
            <a:ext cx="1447920" cy="30492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Ques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ow can a car be accelerating if its speed is a constant 65 km/h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f it is changing directions it is accelerat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alculating Accelera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370160" y="1827000"/>
            <a:ext cx="731664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f an object is moving in a straight lin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Rectangle 7" descr=""/>
          <p:cNvPicPr/>
          <p:nvPr/>
        </p:nvPicPr>
        <p:blipFill>
          <a:blip r:embed="rId1"/>
          <a:stretch/>
        </p:blipFill>
        <p:spPr>
          <a:xfrm>
            <a:off x="838080" y="2666880"/>
            <a:ext cx="7696440" cy="1051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371600" y="4113360"/>
            <a:ext cx="670716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Units of acceleration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490320" indent="-188640">
              <a:spcBef>
                <a:spcPts val="7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/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alculating Accelera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5486400"/>
            <a:ext cx="990720" cy="7142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990720" y="5533920"/>
            <a:ext cx="990360" cy="7146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2438280" y="5562720"/>
            <a:ext cx="990720" cy="7142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>
            <a:off x="4724280" y="5562720"/>
            <a:ext cx="990720" cy="7142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8153280" y="5562720"/>
            <a:ext cx="990720" cy="7142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237240" y="5119560"/>
            <a:ext cx="4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0 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"/>
          <p:cNvSpPr/>
          <p:nvPr/>
        </p:nvSpPr>
        <p:spPr>
          <a:xfrm>
            <a:off x="1167480" y="5105520"/>
            <a:ext cx="4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 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2539080" y="5105520"/>
            <a:ext cx="4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 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"/>
          <p:cNvSpPr/>
          <p:nvPr/>
        </p:nvSpPr>
        <p:spPr>
          <a:xfrm>
            <a:off x="4901400" y="5105520"/>
            <a:ext cx="4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 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"/>
          <p:cNvSpPr/>
          <p:nvPr/>
        </p:nvSpPr>
        <p:spPr>
          <a:xfrm>
            <a:off x="8406360" y="5105520"/>
            <a:ext cx="4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4 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"/>
          <p:cNvSpPr/>
          <p:nvPr/>
        </p:nvSpPr>
        <p:spPr>
          <a:xfrm>
            <a:off x="114120" y="6186600"/>
            <a:ext cx="7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0 m/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"/>
          <p:cNvSpPr/>
          <p:nvPr/>
        </p:nvSpPr>
        <p:spPr>
          <a:xfrm>
            <a:off x="1104480" y="6172200"/>
            <a:ext cx="7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4 m/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"/>
          <p:cNvSpPr/>
          <p:nvPr/>
        </p:nvSpPr>
        <p:spPr>
          <a:xfrm>
            <a:off x="2534760" y="6186600"/>
            <a:ext cx="7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8 m/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4769640" y="6172200"/>
            <a:ext cx="91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2 m/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8111520" y="6172200"/>
            <a:ext cx="91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6 m/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2285640" y="5715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2209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285640" y="6019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4419720" y="57150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4266720" y="5867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4419720" y="60199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7543440" y="5715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7314840" y="5867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7543440" y="6019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Rectangle 7" descr=""/>
          <p:cNvPicPr/>
          <p:nvPr/>
        </p:nvPicPr>
        <p:blipFill>
          <a:blip r:embed="rId6"/>
          <a:stretch/>
        </p:blipFill>
        <p:spPr>
          <a:xfrm>
            <a:off x="1066680" y="1828800"/>
            <a:ext cx="731376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Ques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70160" y="1827000"/>
            <a:ext cx="7240320" cy="15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 skydiver accelerates from 20 m/s to 40 m/s in 2 seconds. What is the skydiver’s average acceleration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066680" y="3200400"/>
            <a:ext cx="716292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raphing Accelera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an use 2 kinds of graph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peed vs. tim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istance vs. tim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Graphing Acceleration: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peed vs. Time Graph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49" name="Rectangle 7" descr=""/>
          <p:cNvPicPr/>
          <p:nvPr/>
        </p:nvPicPr>
        <p:blipFill>
          <a:blip r:embed="rId1"/>
          <a:stretch/>
        </p:blipFill>
        <p:spPr>
          <a:xfrm>
            <a:off x="1676520" y="1676520"/>
            <a:ext cx="6019560" cy="345096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990720" y="525780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eed is increasing with time = accelera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ne is straight = acceleration is consta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6553080" y="228600"/>
            <a:ext cx="2332080" cy="1554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Graphing Acceleration: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peed vs. Time Graph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53" name="Rectangle 7" descr=""/>
          <p:cNvPicPr/>
          <p:nvPr/>
        </p:nvPicPr>
        <p:blipFill>
          <a:blip r:embed="rId1"/>
          <a:stretch/>
        </p:blipFill>
        <p:spPr>
          <a:xfrm>
            <a:off x="1676520" y="1676520"/>
            <a:ext cx="6019560" cy="345096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2209680" y="5257800"/>
            <a:ext cx="541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Speed vs. Time graph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leration = Rise/Ru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4 m/s ÷ 2 s =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 m/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4343400" y="3567240"/>
            <a:ext cx="144792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5791320" y="2957400"/>
            <a:ext cx="0" cy="6098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4429080" y="3657600"/>
            <a:ext cx="1155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un = 2 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"/>
          <p:cNvSpPr/>
          <p:nvPr/>
        </p:nvSpPr>
        <p:spPr>
          <a:xfrm>
            <a:off x="5973840" y="3048120"/>
            <a:ext cx="1469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ise = 4 m/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6553080" y="228600"/>
            <a:ext cx="2332080" cy="1554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Graphing Acceleration: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istance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vs. Time Graph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61" name="Rectangle 7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6019560" cy="34509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152280" y="5257800"/>
            <a:ext cx="883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 Distance vs. Time graphs a curved line means the object is acceleratin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rved line also means your speed is increasing. Remember slope = speed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6553080" y="228600"/>
            <a:ext cx="2332080" cy="1554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64" name=""/>
          <p:cNvSpPr/>
          <p:nvPr/>
        </p:nvSpPr>
        <p:spPr>
          <a:xfrm>
            <a:off x="2514600" y="4191120"/>
            <a:ext cx="8380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"/>
          <p:cNvSpPr/>
          <p:nvPr/>
        </p:nvSpPr>
        <p:spPr>
          <a:xfrm>
            <a:off x="3429000" y="4191120"/>
            <a:ext cx="76212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"/>
          <p:cNvSpPr/>
          <p:nvPr/>
        </p:nvSpPr>
        <p:spPr>
          <a:xfrm>
            <a:off x="4267080" y="4191120"/>
            <a:ext cx="76212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5105520" y="4191120"/>
            <a:ext cx="76176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5943600" y="4191120"/>
            <a:ext cx="76212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6705720" y="2209680"/>
            <a:ext cx="0" cy="1905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5867280" y="3276720"/>
            <a:ext cx="0" cy="838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5029200" y="3733920"/>
            <a:ext cx="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4191120" y="3962160"/>
            <a:ext cx="0" cy="228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3352680" y="4038480"/>
            <a:ext cx="0" cy="152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alculating Spee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Speed (S)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= distance traveled (d) / the amount of time it took (t)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231360" y="3743280"/>
            <a:ext cx="192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S = d/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Ques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75" name="Rectangle 7" descr=""/>
          <p:cNvPicPr/>
          <p:nvPr/>
        </p:nvPicPr>
        <p:blipFill>
          <a:blip r:embed="rId1"/>
          <a:stretch/>
        </p:blipFill>
        <p:spPr>
          <a:xfrm>
            <a:off x="1676520" y="1676520"/>
            <a:ext cx="6019560" cy="345096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1551240" y="5105520"/>
            <a:ext cx="685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ove is a graph showing the speed of a car over tim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) How is the speed of the car changing (speeding up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lowing down, or staying the same)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) What is this car’s acceleration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793160" y="6216480"/>
            <a:ext cx="533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car is slowing dow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cceleration = rise/run = -6m/s ÷3s =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-2 m/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6477120" y="2895480"/>
            <a:ext cx="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95480"/>
            <a:ext cx="20574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4886280" y="2438280"/>
            <a:ext cx="1155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un = 3 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6674400" y="3124080"/>
            <a:ext cx="1543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ise = -6 m/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83" name="Rectangle 7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6019560" cy="345096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762120" y="548640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hich line represents an object that is accelerating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28600" y="4648320"/>
            <a:ext cx="8229600" cy="192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black and red lin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present a objects that are accelerating. Black is going a greater distance each second, so it must be speeding up. Red is going less each second, so must be slowing down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member: in distance vs. time graphs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urved line = accelerating, flat line = constant spe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Question: Hard on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87" name="Rectangle 7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5867280" cy="336564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1524600" y="5105520"/>
            <a:ext cx="614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ove is a graph showing the speed of a car over tim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)What would a distance vs. time graph for th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ok like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9" name="Rectangle 7" descr=""/>
          <p:cNvPicPr/>
          <p:nvPr/>
        </p:nvPicPr>
        <p:blipFill>
          <a:blip r:embed="rId2"/>
          <a:stretch/>
        </p:blipFill>
        <p:spPr>
          <a:xfrm>
            <a:off x="1371600" y="1676520"/>
            <a:ext cx="655308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Units for spee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pends, but will always be a distance unit / a time uni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x. Cars: mi./h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Jets: km/h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nails: cm/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alling objects: m/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alculating spee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f I travel 100 kilometer in one hour then I have a speed of…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100 km/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f I travel 1 meter in 1 second then I have a speed of…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1 m/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5799960" y="533520"/>
            <a:ext cx="192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S = d/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verage spee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peed is usually NOT CONSTA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x. Cars stop and go regularl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unners go slower uphill than downhil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verage speed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= total distance traveled/total time it took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alculating Average Speed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t took me 1 hour to go 40 km on the highway. Then it took me 2 more hours to go 20 km using the street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Total Distance: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40 km + 20 km = 60 k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Total Time: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 h + 2 h = 3 h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Ave. Speed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otal d/total t = 60 km/3 h = 20 km/h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666880" y="5715000"/>
            <a:ext cx="3645000" cy="8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Ques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 travelled 25 km in 10 minutes. How many meters have I travelled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) 25000 m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B) .0112 m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) .025 m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) 2.5 m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2247120" y="5486400"/>
            <a:ext cx="46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5 km * 1000m/km = 25000 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Ques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 ran 1000 m in 3 minutes. Then ran another 1000 m uphill in 7 minutes. What is my average speed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) 100 m/mi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B) 2000 m/mi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) 10 m/mi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) 200 m/min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) 20 m/mi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990720" y="3505320"/>
            <a:ext cx="7291440" cy="2654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otal Dist.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000 m + 1000 m =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000 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otal Time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min + 7 min =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10 m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ve speed = total dist/total time =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000m/10 min =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00 m/min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1T18:39:53Z</dcterms:created>
  <dc:creator>DUSD #89</dc:creator>
  <dc:description/>
  <dc:language>en-US</dc:language>
  <cp:lastModifiedBy>DUSD #89</cp:lastModifiedBy>
  <dcterms:modified xsi:type="dcterms:W3CDTF">2016-09-19T23:57:45Z</dcterms:modified>
  <cp:revision>22</cp:revision>
  <dc:subject/>
  <dc:title>Speed and Accele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746</vt:lpwstr>
  </property>
</Properties>
</file>